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E0E-2586-47BF-9FA4-B7308C87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EBE9-07A7-4CC6-90F2-DC7E9DBE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4F4-8DC6-4ABA-84C7-ABAACCDE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9D92-D0F5-435D-A3D2-3E3F6A5E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8C8-81BE-4A50-98D8-93AF1EC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2E2-3644-4286-852B-1C66987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3783-2C02-4A24-9D8F-EAAC6026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03B-6FC9-4224-943B-898EF6C8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789-259B-4DC1-95B1-DF4E1FB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E524-D392-4D1C-89C1-F7C0952D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750-30E7-43C4-9D80-3856F327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623-4064-495B-A374-F633C014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BF82-C9A3-4CF3-A305-E885E5EE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Combinations are Possi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Questions for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combinations are possible if you are given 20 prefixes and 20 root w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number of combination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is the formula for solving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Explain how figuring out the number of English words possible is different from figuring out the number of combination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WERS TO DISCUSSION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stimation figures may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20 x 20= 400 possible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ere are 400 possible combinations, but not all of those combinations are English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8:08:27Z</dcterms:created>
  <dc:creator>ASD</dc:creator>
  <dc:description/>
  <dc:language>en-US</dc:language>
  <cp:lastModifiedBy>ASD</cp:lastModifiedBy>
  <dcterms:modified xsi:type="dcterms:W3CDTF">2011-05-31T19:29:23Z</dcterms:modified>
  <cp:revision>3</cp:revision>
  <dc:subject/>
  <dc:title>Word Puzzles</dc:title>
</cp:coreProperties>
</file>